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3E0D-0EC8-4D6C-8E5C-89512D6DC745}" type="datetime">
              <a:rPr b="0" lang="zh-CN" sz="12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7A29-46C8-44F4-9796-A3FD26A1E02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D0E7-5D95-48EE-B177-D32A9A0D3FD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F6F-3650-4394-9A75-631D1C48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62C-8A1E-424A-B773-F00ED20F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9F8-3AEA-45E9-9510-CEB15FB8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9DC-AD9E-447B-AF32-9496DFE7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7D1-9AC5-4EA5-9F27-0966AE81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62FF-61C6-402E-8DB3-1EF2D59A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5BB-EBC8-415E-ACA6-31BCD903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606D-38D2-4061-AAF9-1C5E96AF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DB77-988F-426F-9D27-9ADAB9DD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397F-3932-4405-A3D6-EBB8EBE5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20FC-8297-4E36-AAB2-39FC9AE3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48A-4746-427B-BADF-53ACEB496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D538-9479-4530-A5CD-A167AE6F85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674720" y="1143000"/>
            <a:ext cx="579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25  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奇特的“钢琴”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直线连接符 21"/>
          <p:cNvSpPr/>
          <p:nvPr/>
        </p:nvSpPr>
        <p:spPr>
          <a:xfrm>
            <a:off x="1835280" y="1989000"/>
            <a:ext cx="547344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图片 6" descr="奇特的钢琴.jpg"/>
          <p:cNvPicPr/>
          <p:nvPr/>
        </p:nvPicPr>
        <p:blipFill>
          <a:blip r:embed="rId2"/>
          <a:stretch/>
        </p:blipFill>
        <p:spPr>
          <a:xfrm>
            <a:off x="2340000" y="2060640"/>
            <a:ext cx="38876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2" descr="田字格.jpg"/>
          <p:cNvPicPr/>
          <p:nvPr/>
        </p:nvPicPr>
        <p:blipFill>
          <a:blip r:embed="rId2"/>
          <a:stretch/>
        </p:blipFill>
        <p:spPr>
          <a:xfrm>
            <a:off x="285840" y="1357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288000" y="1144800"/>
            <a:ext cx="2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8"/>
          <p:cNvSpPr/>
          <p:nvPr/>
        </p:nvSpPr>
        <p:spPr>
          <a:xfrm>
            <a:off x="381240" y="1357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1000080" y="1569960"/>
            <a:ext cx="7286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饣”短撇直且挺，“反”第二笔是竖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早饭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米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我喜欢吃米饭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2" descr="田字格.jpg"/>
          <p:cNvPicPr/>
          <p:nvPr/>
        </p:nvPicPr>
        <p:blipFill>
          <a:blip r:embed="rId2"/>
          <a:stretch/>
        </p:blipFill>
        <p:spPr>
          <a:xfrm>
            <a:off x="285840" y="150012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04" name="矩形 8"/>
          <p:cNvSpPr/>
          <p:nvPr/>
        </p:nvSpPr>
        <p:spPr>
          <a:xfrm>
            <a:off x="381240" y="1500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1111320" y="1712880"/>
            <a:ext cx="7103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广”点在竖中线右侧，撇长而舒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商店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花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花店里新进了好多花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2" descr="田字格.jpg"/>
          <p:cNvPicPr/>
          <p:nvPr/>
        </p:nvPicPr>
        <p:blipFill>
          <a:blip r:embed="rId2"/>
          <a:stretch/>
        </p:blipFill>
        <p:spPr>
          <a:xfrm>
            <a:off x="285840" y="142884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"/>
          <p:cNvSpPr/>
          <p:nvPr/>
        </p:nvSpPr>
        <p:spPr>
          <a:xfrm>
            <a:off x="288360" y="1080720"/>
            <a:ext cx="38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8"/>
          <p:cNvSpPr/>
          <p:nvPr/>
        </p:nvSpPr>
        <p:spPr>
          <a:xfrm>
            <a:off x="285840" y="1428840"/>
            <a:ext cx="6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1"/>
          <p:cNvSpPr/>
          <p:nvPr/>
        </p:nvSpPr>
        <p:spPr>
          <a:xfrm>
            <a:off x="1111320" y="1572840"/>
            <a:ext cx="7461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左窄右宽，“匕”竖弯钩圆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手指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指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五个手指的长短是不一样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2" descr="田字格.jpg"/>
          <p:cNvPicPr/>
          <p:nvPr/>
        </p:nvPicPr>
        <p:blipFill>
          <a:blip r:embed="rId2"/>
          <a:stretch/>
        </p:blipFill>
        <p:spPr>
          <a:xfrm>
            <a:off x="357120" y="135720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11" name="矩形 8"/>
          <p:cNvSpPr/>
          <p:nvPr/>
        </p:nvSpPr>
        <p:spPr>
          <a:xfrm>
            <a:off x="452520" y="1357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1071720" y="1572840"/>
            <a:ext cx="714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左窄右宽，“军”的“冖”较小，末横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挥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指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他们挥手跟我们说再见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田字格.jpg"/>
          <p:cNvPicPr/>
          <p:nvPr/>
        </p:nvPicPr>
        <p:blipFill>
          <a:blip r:embed="rId2"/>
          <a:stretch/>
        </p:blipFill>
        <p:spPr>
          <a:xfrm>
            <a:off x="35712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14" name="矩形 8"/>
          <p:cNvSpPr/>
          <p:nvPr/>
        </p:nvSpPr>
        <p:spPr>
          <a:xfrm>
            <a:off x="45252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旧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143000" y="1784160"/>
            <a:ext cx="7143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第二笔竖居于竖中线略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旧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旧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小红在整理旧书时，发现了好多有用的资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田字格.jpg"/>
          <p:cNvPicPr/>
          <p:nvPr/>
        </p:nvPicPr>
        <p:blipFill>
          <a:blip r:embed="rId2"/>
          <a:stretch/>
        </p:blipFill>
        <p:spPr>
          <a:xfrm>
            <a:off x="35712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17" name="矩形 8"/>
          <p:cNvSpPr/>
          <p:nvPr/>
        </p:nvSpPr>
        <p:spPr>
          <a:xfrm>
            <a:off x="45252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1143000" y="17870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扌”写高些，“立”上横短，下横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拉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拉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小明在帮爸爸拉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田字格.jpg"/>
          <p:cNvPicPr/>
          <p:nvPr/>
        </p:nvPicPr>
        <p:blipFill>
          <a:blip r:embed="rId2"/>
          <a:stretch/>
        </p:blipFill>
        <p:spPr>
          <a:xfrm>
            <a:off x="35712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0" name="矩形 8"/>
          <p:cNvSpPr/>
          <p:nvPr/>
        </p:nvSpPr>
        <p:spPr>
          <a:xfrm>
            <a:off x="45252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1143000" y="17870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元”撇舒展，竖弯钩圆润有力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完工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完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这项建筑工程终于完工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田字格.jpg"/>
          <p:cNvPicPr/>
          <p:nvPr/>
        </p:nvPicPr>
        <p:blipFill>
          <a:blip r:embed="rId2"/>
          <a:stretch/>
        </p:blipFill>
        <p:spPr>
          <a:xfrm>
            <a:off x="35712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123" name="矩形 8"/>
          <p:cNvSpPr/>
          <p:nvPr/>
        </p:nvSpPr>
        <p:spPr>
          <a:xfrm>
            <a:off x="45252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1143000" y="1787040"/>
            <a:ext cx="70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十”竖在竖中线上，“又”两笔舒展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支持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支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我和妈妈支持爸爸的决定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同侧圆角矩形 4"/>
          <p:cNvSpPr/>
          <p:nvPr/>
        </p:nvSpPr>
        <p:spPr>
          <a:xfrm>
            <a:off x="428760" y="78588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直线连接符 21"/>
          <p:cNvSpPr/>
          <p:nvPr/>
        </p:nvSpPr>
        <p:spPr>
          <a:xfrm flipV="1">
            <a:off x="428760" y="1357200"/>
            <a:ext cx="207144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1"/>
          <p:cNvSpPr/>
          <p:nvPr/>
        </p:nvSpPr>
        <p:spPr>
          <a:xfrm>
            <a:off x="0" y="20152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0" y="1500120"/>
            <a:ext cx="90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    抗日战争时期，延安军民的生活很艰苦，每个人只能领到很少的津贴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描写军民“艰苦”和很少的“津贴”，说明每个人的生活都很不富裕。引起下文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冼星海总是把这些钱攒起来，买一些瓷器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19"/>
          <p:cNvSpPr/>
          <p:nvPr/>
        </p:nvSpPr>
        <p:spPr>
          <a:xfrm>
            <a:off x="285840" y="4429080"/>
            <a:ext cx="8501040" cy="121464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冼星海把很少的津贴赞起来，用来买瓷器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5"/>
          <p:cNvSpPr/>
          <p:nvPr/>
        </p:nvSpPr>
        <p:spPr>
          <a:xfrm>
            <a:off x="428760" y="142884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142920" y="857160"/>
            <a:ext cx="857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  大家很奇怪。有人开玩笑说：“冼星海，你买这么多瓶瓶罐罐，是想开饭店，还是想留着当古董？”冼星海笑了笑，没有回答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作者通过大家对冼星海的疑惑为本文设下悬念，吸引读者思索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5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资料宝袋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矩形 9"/>
          <p:cNvSpPr/>
          <p:nvPr/>
        </p:nvSpPr>
        <p:spPr>
          <a:xfrm>
            <a:off x="428760" y="1928880"/>
            <a:ext cx="659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冼星海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1905-1945)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，中国作曲家。曾名黄训、孔与，广东番禹（今广州）人。作品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黄河大合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生产大合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等四部，歌曲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救国军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游击队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《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在太行山上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图片 7" descr="xixinghai1.jpg"/>
          <p:cNvPicPr/>
          <p:nvPr/>
        </p:nvPicPr>
        <p:blipFill>
          <a:blip r:embed="rId2"/>
          <a:stretch/>
        </p:blipFill>
        <p:spPr>
          <a:xfrm>
            <a:off x="7236000" y="2133720"/>
            <a:ext cx="1657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8"/>
          <p:cNvSpPr/>
          <p:nvPr/>
        </p:nvSpPr>
        <p:spPr>
          <a:xfrm>
            <a:off x="214200" y="785880"/>
            <a:ext cx="87156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每天晚上，冼星海就把这些瓷器摆好，用一根小小的指挥棒敲敲这个，敲敲那个，瓷器发出了一阵叮叮当当的声响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“敲敲这个，敲敲那个”反映了冼星海创作的认真态度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慢慢地，这响声变成了一串一串动听的音符。然后，他又取出那把唯一的旧小提琴拉了起来。拉一会儿，他就趴在桌上写一会儿，写完后又接着敲哇，拉呀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这些动作描写表现了冼星海对音乐创作的顽强和执着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3"/>
          <p:cNvSpPr/>
          <p:nvPr/>
        </p:nvSpPr>
        <p:spPr>
          <a:xfrm>
            <a:off x="428760" y="85716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原来，冼星海把这些瓷器当成了钢琴。一支支名曲，就在这奇特的“钢琴”上诞生了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这里的引号表示具有特殊意义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500040" y="3429000"/>
            <a:ext cx="81439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冼星海把瓷器当钢琴，创作了一支支名曲。特殊的“钢琴”立下了大功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左大括号 6"/>
          <p:cNvSpPr/>
          <p:nvPr/>
        </p:nvSpPr>
        <p:spPr>
          <a:xfrm>
            <a:off x="1143000" y="3000240"/>
            <a:ext cx="428760" cy="200052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2000520"/>
              <a:gd name="textAreaBottom" fmla="*/ 1989360 h 200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3"/>
                  <a:pt x="10800" y="385"/>
                </a:cubicBezTo>
                <a:lnTo>
                  <a:pt x="10800" y="10415"/>
                </a:lnTo>
                <a:cubicBezTo>
                  <a:pt x="10800" y="10608"/>
                  <a:pt x="5400" y="10800"/>
                  <a:pt x="0" y="10800"/>
                </a:cubicBezTo>
                <a:cubicBezTo>
                  <a:pt x="5400" y="10800"/>
                  <a:pt x="10800" y="10993"/>
                  <a:pt x="10800" y="11185"/>
                </a:cubicBezTo>
                <a:lnTo>
                  <a:pt x="10800" y="21215"/>
                </a:lnTo>
                <a:cubicBezTo>
                  <a:pt x="10800" y="2140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矩形 22"/>
          <p:cNvSpPr/>
          <p:nvPr/>
        </p:nvSpPr>
        <p:spPr>
          <a:xfrm>
            <a:off x="285840" y="2428920"/>
            <a:ext cx="785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特殊的“钢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29"/>
          <p:cNvSpPr/>
          <p:nvPr/>
        </p:nvSpPr>
        <p:spPr>
          <a:xfrm>
            <a:off x="1643040" y="2643120"/>
            <a:ext cx="73580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攒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瓶瓶罐罐（条件艰苦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1643040" y="4429080"/>
            <a:ext cx="7358040" cy="785880"/>
          </a:xfrm>
          <a:prstGeom prst="rect">
            <a:avLst/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叮叮当当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创作名曲（刻苦、执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概括主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1"/>
          <p:cNvSpPr/>
          <p:nvPr/>
        </p:nvSpPr>
        <p:spPr>
          <a:xfrm>
            <a:off x="357120" y="20732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714240" y="2071800"/>
            <a:ext cx="7929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这篇课文讲的是抗日战争期间，冼星海在延安艰苦的条件下，因陋就简，用他自制的“钢琴”坚持音乐创作的故事，表现了冼星海对音乐的热爱、执着和乐观精神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同侧圆角矩形 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755640" y="227664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渲染是写作的一种变现手法，是指对所写的对象做突出的描写、形容、烘托。它能够烘托环境，加强气氛，深化主题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同侧圆角矩形 2"/>
          <p:cNvSpPr/>
          <p:nvPr/>
        </p:nvSpPr>
        <p:spPr>
          <a:xfrm>
            <a:off x="428760" y="8571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线连接符 21"/>
          <p:cNvSpPr/>
          <p:nvPr/>
        </p:nvSpPr>
        <p:spPr>
          <a:xfrm flipV="1">
            <a:off x="428760" y="1428480"/>
            <a:ext cx="207144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857160" y="1785960"/>
            <a:ext cx="70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9"/>
          <p:cNvSpPr/>
          <p:nvPr/>
        </p:nvSpPr>
        <p:spPr>
          <a:xfrm>
            <a:off x="324000" y="1197000"/>
            <a:ext cx="83912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黄河大合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黄河大合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由光未然作词，冼星海作曲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39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作于延安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4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年曲作者在苏联整理加工。全曲由九个乐章组成，每个乐章由朗诵做先导，以黄河两岸人民抗日救国的英勇斗争为题材，歌颂中华民族源远流长的光荣历史和中国人民坚强不屈的斗争精神。音乐气势磅礴，强烈地反映出时代精神，并有鲜明的民族风格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黄河大合唱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是冼星海最重要和影响最大的一部代表作。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同侧圆角矩形 2"/>
          <p:cNvSpPr/>
          <p:nvPr/>
        </p:nvSpPr>
        <p:spPr>
          <a:xfrm>
            <a:off x="428760" y="9288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心灵感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直线连接符 21"/>
          <p:cNvSpPr/>
          <p:nvPr/>
        </p:nvSpPr>
        <p:spPr>
          <a:xfrm flipV="1">
            <a:off x="357120" y="15714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矩形 7"/>
          <p:cNvSpPr/>
          <p:nvPr/>
        </p:nvSpPr>
        <p:spPr>
          <a:xfrm>
            <a:off x="395280" y="177948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几个简单的瓶瓶罐罐，竟创作出一串串动听的音符，前后反差大得惊人。冼星海为了自己的理想，没有条件创造条件，他这样乐观执着，真令人肃然起敬。现今社会，我们有着温暖的教室，资深的老师，有充分的条件来展示自己    的才华，相信我们能创造出更美好的未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同侧圆角矩形 2"/>
          <p:cNvSpPr/>
          <p:nvPr/>
        </p:nvSpPr>
        <p:spPr>
          <a:xfrm>
            <a:off x="357120" y="8571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线连接符 21"/>
          <p:cNvSpPr/>
          <p:nvPr/>
        </p:nvSpPr>
        <p:spPr>
          <a:xfrm flipV="1">
            <a:off x="357120" y="157140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500040" y="1928880"/>
            <a:ext cx="657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0" y="17146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、我会给加横线的字选择正确的读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钢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琴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敲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打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符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号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金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钱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苦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 时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期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桌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子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Calibri"/>
              </a:rPr>
              <a:t>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贴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1"/>
          <p:cNvSpPr/>
          <p:nvPr/>
        </p:nvSpPr>
        <p:spPr>
          <a:xfrm>
            <a:off x="2050920" y="2205000"/>
            <a:ext cx="6481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gāng                  qiāo                  f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qián                 jiān                   q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zhuō                jīn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7"/>
          <p:cNvSpPr/>
          <p:nvPr/>
        </p:nvSpPr>
        <p:spPr>
          <a:xfrm>
            <a:off x="357120" y="907920"/>
            <a:ext cx="8786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二、选字组词。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只 枝 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笔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花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一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军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两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时 石 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候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在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结（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）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头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（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）桌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979640" y="19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支                       枝                      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支                            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9"/>
          <p:cNvSpPr/>
          <p:nvPr/>
        </p:nvSpPr>
        <p:spPr>
          <a:xfrm>
            <a:off x="1332000" y="3573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时                 时                  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实          石                  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读课文.jpg"/>
          <p:cNvPicPr/>
          <p:nvPr/>
        </p:nvPicPr>
        <p:blipFill>
          <a:blip r:embed="rId2"/>
          <a:stretch/>
        </p:blipFill>
        <p:spPr>
          <a:xfrm>
            <a:off x="4429080" y="3000240"/>
            <a:ext cx="4357800" cy="3294360"/>
          </a:xfrm>
          <a:prstGeom prst="rect">
            <a:avLst/>
          </a:prstGeom>
          <a:ln w="0">
            <a:noFill/>
          </a:ln>
        </p:spPr>
      </p:pic>
      <p:sp>
        <p:nvSpPr>
          <p:cNvPr id="62" name="矩形 7"/>
          <p:cNvSpPr/>
          <p:nvPr/>
        </p:nvSpPr>
        <p:spPr>
          <a:xfrm>
            <a:off x="500040" y="228600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椭圆形标注 8"/>
          <p:cNvSpPr/>
          <p:nvPr/>
        </p:nvSpPr>
        <p:spPr>
          <a:xfrm>
            <a:off x="714240" y="4071960"/>
            <a:ext cx="3357720" cy="17143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不认识的字要读拼音哟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0"/>
          <p:cNvSpPr/>
          <p:nvPr/>
        </p:nvSpPr>
        <p:spPr>
          <a:xfrm>
            <a:off x="928800" y="2214720"/>
            <a:ext cx="82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正确、流利、有感情地朗读课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357120" y="858960"/>
            <a:ext cx="821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正确认读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个生字，会写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4" descr="认字.jpg"/>
          <p:cNvPicPr/>
          <p:nvPr/>
        </p:nvPicPr>
        <p:blipFill>
          <a:blip r:embed="rId2"/>
          <a:stretch/>
        </p:blipFill>
        <p:spPr>
          <a:xfrm>
            <a:off x="1285920" y="1571760"/>
            <a:ext cx="5857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14200" y="1350360"/>
            <a:ext cx="87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理解课文内容，感受冼星海在艰苦的环境中对音乐的热爱与追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笑脸 7"/>
          <p:cNvSpPr/>
          <p:nvPr/>
        </p:nvSpPr>
        <p:spPr>
          <a:xfrm>
            <a:off x="7858080" y="5429160"/>
            <a:ext cx="914400" cy="91440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5"/>
          <p:cNvGrpSpPr/>
          <p:nvPr/>
        </p:nvGrpSpPr>
        <p:grpSpPr>
          <a:xfrm>
            <a:off x="468360" y="1268280"/>
            <a:ext cx="2071800" cy="661680"/>
            <a:chOff x="468360" y="1268280"/>
            <a:chExt cx="2071800" cy="661680"/>
          </a:xfrm>
        </p:grpSpPr>
        <p:sp>
          <p:nvSpPr>
            <p:cNvPr id="70" name="直线连接符 21"/>
            <p:cNvSpPr/>
            <p:nvPr/>
          </p:nvSpPr>
          <p:spPr>
            <a:xfrm flipV="1">
              <a:off x="468360" y="192456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同侧圆角矩形 7"/>
            <p:cNvSpPr/>
            <p:nvPr/>
          </p:nvSpPr>
          <p:spPr>
            <a:xfrm>
              <a:off x="468360" y="12682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1" y="0"/>
                  </a:moveTo>
                  <a:lnTo>
                    <a:pt x="1914537" y="0"/>
                  </a:lnTo>
                  <a:cubicBezTo>
                    <a:pt x="1962073" y="0"/>
                    <a:pt x="2000608" y="38535"/>
                    <a:pt x="2000608" y="86071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1"/>
                  </a:lnTo>
                  <a:cubicBezTo>
                    <a:pt x="0" y="38535"/>
                    <a:pt x="38535" y="0"/>
                    <a:pt x="8607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矩形 8" descr=""/>
          <p:cNvPicPr/>
          <p:nvPr/>
        </p:nvPicPr>
        <p:blipFill>
          <a:blip r:embed="rId2"/>
          <a:stretch/>
        </p:blipFill>
        <p:spPr>
          <a:xfrm>
            <a:off x="500040" y="2000160"/>
            <a:ext cx="2705040" cy="12002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285840" y="2793960"/>
            <a:ext cx="860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āng   kàng   qī    jūn    jiān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īn    tiē    qi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钢       抗      期    军     艰      津    贴     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àn    huī    qiāo  fú      jiù   zhuō  wán   zhī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店        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敲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符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旧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桌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完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支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15"/>
          <p:cNvSpPr/>
          <p:nvPr/>
        </p:nvSpPr>
        <p:spPr>
          <a:xfrm>
            <a:off x="5820840" y="4840200"/>
            <a:ext cx="29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矩形 1" descr=""/>
          <p:cNvPicPr/>
          <p:nvPr/>
        </p:nvPicPr>
        <p:blipFill>
          <a:blip r:embed="rId2"/>
          <a:stretch/>
        </p:blipFill>
        <p:spPr>
          <a:xfrm>
            <a:off x="428760" y="1000080"/>
            <a:ext cx="2393640" cy="646200"/>
          </a:xfrm>
          <a:prstGeom prst="rect">
            <a:avLst/>
          </a:prstGeom>
          <a:ln w="0">
            <a:noFill/>
          </a:ln>
        </p:spPr>
      </p:pic>
      <p:grpSp>
        <p:nvGrpSpPr>
          <p:cNvPr id="77" name="组合 21"/>
          <p:cNvGrpSpPr/>
          <p:nvPr/>
        </p:nvGrpSpPr>
        <p:grpSpPr>
          <a:xfrm>
            <a:off x="1167120" y="1785960"/>
            <a:ext cx="2705760" cy="1785600"/>
            <a:chOff x="1167120" y="1785960"/>
            <a:chExt cx="2705760" cy="1785600"/>
          </a:xfrm>
        </p:grpSpPr>
        <p:grpSp>
          <p:nvGrpSpPr>
            <p:cNvPr id="78" name="组合 20"/>
            <p:cNvGrpSpPr/>
            <p:nvPr/>
          </p:nvGrpSpPr>
          <p:grpSpPr>
            <a:xfrm>
              <a:off x="1167120" y="1785960"/>
              <a:ext cx="2705760" cy="1428480"/>
              <a:chOff x="1167120" y="1785960"/>
              <a:chExt cx="2705760" cy="1428480"/>
            </a:xfrm>
          </p:grpSpPr>
          <p:grpSp>
            <p:nvGrpSpPr>
              <p:cNvPr id="79" name="组合 19"/>
              <p:cNvGrpSpPr/>
              <p:nvPr/>
            </p:nvGrpSpPr>
            <p:grpSpPr>
              <a:xfrm>
                <a:off x="1167120" y="2071440"/>
                <a:ext cx="904320" cy="1143000"/>
                <a:chOff x="1167120" y="2071440"/>
                <a:chExt cx="904320" cy="1143000"/>
              </a:xfrm>
            </p:grpSpPr>
            <p:sp>
              <p:nvSpPr>
                <p:cNvPr id="80" name="左大括号 2"/>
                <p:cNvSpPr/>
                <p:nvPr/>
              </p:nvSpPr>
              <p:spPr>
                <a:xfrm>
                  <a:off x="1785960" y="2071440"/>
                  <a:ext cx="285480" cy="1143000"/>
                </a:xfrm>
                <a:custGeom>
                  <a:avLst/>
                  <a:gdLst>
                    <a:gd name="textAreaLeft" fmla="*/ 182520 w 285480"/>
                    <a:gd name="textAreaRight" fmla="*/ 285840 w 285480"/>
                    <a:gd name="textAreaTop" fmla="*/ 7200 h 1143000"/>
                    <a:gd name="textAreaBottom" fmla="*/ 1135800 h 114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225"/>
                        <a:pt x="10800" y="449"/>
                      </a:cubicBezTo>
                      <a:lnTo>
                        <a:pt x="10800" y="10833"/>
                      </a:lnTo>
                      <a:cubicBezTo>
                        <a:pt x="10800" y="11058"/>
                        <a:pt x="5400" y="11282"/>
                        <a:pt x="0" y="11282"/>
                      </a:cubicBezTo>
                      <a:cubicBezTo>
                        <a:pt x="5400" y="11282"/>
                        <a:pt x="10800" y="11507"/>
                        <a:pt x="10800" y="11731"/>
                      </a:cubicBezTo>
                      <a:lnTo>
                        <a:pt x="10800" y="21151"/>
                      </a:lnTo>
                      <a:cubicBezTo>
                        <a:pt x="10800" y="21376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1" name="矩形 4"/>
                <p:cNvSpPr/>
                <p:nvPr/>
              </p:nvSpPr>
              <p:spPr>
                <a:xfrm>
                  <a:off x="1167120" y="228564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000000"/>
                      </a:solidFill>
                      <a:latin typeface="Calibri"/>
                    </a:rPr>
                    <a:t>曲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2" name="矩形 7"/>
              <p:cNvSpPr/>
              <p:nvPr/>
            </p:nvSpPr>
            <p:spPr>
              <a:xfrm>
                <a:off x="2448720" y="1785960"/>
                <a:ext cx="1424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qū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Calibri"/>
                  </a:rPr>
                  <a:t>弯曲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" name="矩形 9"/>
            <p:cNvSpPr/>
            <p:nvPr/>
          </p:nvSpPr>
          <p:spPr>
            <a:xfrm>
              <a:off x="2448720" y="2928960"/>
              <a:ext cx="142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qǔ </a:t>
              </a:r>
              <a:r>
                <a:rPr b="0" lang="zh-CN" sz="3600" spc="-1" strike="noStrike">
                  <a:solidFill>
                    <a:srgbClr val="000000"/>
                  </a:solidFill>
                  <a:latin typeface="Calibri"/>
                </a:rPr>
                <a:t>歌曲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组合 22"/>
          <p:cNvGrpSpPr/>
          <p:nvPr/>
        </p:nvGrpSpPr>
        <p:grpSpPr>
          <a:xfrm>
            <a:off x="1167120" y="4214880"/>
            <a:ext cx="3179160" cy="1785600"/>
            <a:chOff x="1167120" y="4214880"/>
            <a:chExt cx="3179160" cy="1785600"/>
          </a:xfrm>
        </p:grpSpPr>
        <p:grpSp>
          <p:nvGrpSpPr>
            <p:cNvPr id="85" name="组合 20"/>
            <p:cNvGrpSpPr/>
            <p:nvPr/>
          </p:nvGrpSpPr>
          <p:grpSpPr>
            <a:xfrm>
              <a:off x="1167120" y="4214880"/>
              <a:ext cx="3179160" cy="1428480"/>
              <a:chOff x="1167120" y="4214880"/>
              <a:chExt cx="3179160" cy="1428480"/>
            </a:xfrm>
          </p:grpSpPr>
          <p:grpSp>
            <p:nvGrpSpPr>
              <p:cNvPr id="86" name="组合 19"/>
              <p:cNvGrpSpPr/>
              <p:nvPr/>
            </p:nvGrpSpPr>
            <p:grpSpPr>
              <a:xfrm>
                <a:off x="1167120" y="4500360"/>
                <a:ext cx="904320" cy="1143000"/>
                <a:chOff x="1167120" y="4500360"/>
                <a:chExt cx="904320" cy="1143000"/>
              </a:xfrm>
            </p:grpSpPr>
            <p:sp>
              <p:nvSpPr>
                <p:cNvPr id="87" name="左大括号 2"/>
                <p:cNvSpPr/>
                <p:nvPr/>
              </p:nvSpPr>
              <p:spPr>
                <a:xfrm>
                  <a:off x="1785960" y="4500360"/>
                  <a:ext cx="285480" cy="1143000"/>
                </a:xfrm>
                <a:custGeom>
                  <a:avLst/>
                  <a:gdLst>
                    <a:gd name="textAreaLeft" fmla="*/ 182520 w 285480"/>
                    <a:gd name="textAreaRight" fmla="*/ 285840 w 285480"/>
                    <a:gd name="textAreaTop" fmla="*/ 7200 h 1143000"/>
                    <a:gd name="textAreaBottom" fmla="*/ 1135800 h 11430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225"/>
                        <a:pt x="10800" y="449"/>
                      </a:cubicBezTo>
                      <a:lnTo>
                        <a:pt x="10800" y="10833"/>
                      </a:lnTo>
                      <a:cubicBezTo>
                        <a:pt x="10800" y="11058"/>
                        <a:pt x="5400" y="11282"/>
                        <a:pt x="0" y="11282"/>
                      </a:cubicBezTo>
                      <a:cubicBezTo>
                        <a:pt x="5400" y="11282"/>
                        <a:pt x="10800" y="11507"/>
                        <a:pt x="10800" y="11731"/>
                      </a:cubicBezTo>
                      <a:lnTo>
                        <a:pt x="10800" y="21151"/>
                      </a:lnTo>
                      <a:cubicBezTo>
                        <a:pt x="10800" y="21376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88" name="矩形 4"/>
                <p:cNvSpPr/>
                <p:nvPr/>
              </p:nvSpPr>
              <p:spPr>
                <a:xfrm>
                  <a:off x="1167120" y="4714560"/>
                  <a:ext cx="455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3600" spc="-1" strike="noStrike">
                      <a:solidFill>
                        <a:srgbClr val="000000"/>
                      </a:solidFill>
                      <a:latin typeface="Calibri"/>
                    </a:rPr>
                    <a:t>当</a:t>
                  </a:r>
                  <a:endParaRPr b="0" lang="en-US" sz="3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89" name="矩形 26"/>
              <p:cNvSpPr/>
              <p:nvPr/>
            </p:nvSpPr>
            <p:spPr>
              <a:xfrm>
                <a:off x="2487960" y="4214880"/>
                <a:ext cx="1858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Calibri"/>
                  </a:rPr>
                  <a:t>dāng 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Calibri"/>
                  </a:rPr>
                  <a:t>当时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矩形 24"/>
            <p:cNvSpPr/>
            <p:nvPr/>
          </p:nvSpPr>
          <p:spPr>
            <a:xfrm>
              <a:off x="2487960" y="5357880"/>
              <a:ext cx="185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dàng </a:t>
              </a:r>
              <a:r>
                <a:rPr b="0" lang="zh-CN" sz="3600" spc="-1" strike="noStrike">
                  <a:solidFill>
                    <a:srgbClr val="000000"/>
                  </a:solidFill>
                  <a:latin typeface="Calibri"/>
                </a:rPr>
                <a:t>当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7" descr="田字格.jpg"/>
          <p:cNvPicPr/>
          <p:nvPr/>
        </p:nvPicPr>
        <p:blipFill>
          <a:blip r:embed="rId2"/>
          <a:stretch/>
        </p:blipFill>
        <p:spPr>
          <a:xfrm>
            <a:off x="500040" y="214308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92" name="Rectangle 1" descr=""/>
          <p:cNvPicPr/>
          <p:nvPr/>
        </p:nvPicPr>
        <p:blipFill>
          <a:blip r:embed="rId3"/>
          <a:stretch/>
        </p:blipFill>
        <p:spPr>
          <a:xfrm>
            <a:off x="428760" y="1000080"/>
            <a:ext cx="2571480" cy="924120"/>
          </a:xfrm>
          <a:prstGeom prst="rect">
            <a:avLst/>
          </a:prstGeom>
          <a:ln w="0">
            <a:noFill/>
          </a:ln>
        </p:spPr>
      </p:pic>
      <p:sp>
        <p:nvSpPr>
          <p:cNvPr id="93" name="矩形 8"/>
          <p:cNvSpPr/>
          <p:nvPr/>
        </p:nvSpPr>
        <p:spPr>
          <a:xfrm>
            <a:off x="500040" y="21430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595440" y="2143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1285920" y="228420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 “寸”横起笔的位置比左部低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时代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我们要珍惜时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7" descr="田字格.jpg"/>
          <p:cNvPicPr/>
          <p:nvPr/>
        </p:nvPicPr>
        <p:blipFill>
          <a:blip r:embed="rId2"/>
          <a:stretch/>
        </p:blipFill>
        <p:spPr>
          <a:xfrm>
            <a:off x="428760" y="1571760"/>
            <a:ext cx="642960" cy="642960"/>
          </a:xfrm>
          <a:prstGeom prst="rect">
            <a:avLst/>
          </a:prstGeom>
          <a:ln w="0">
            <a:noFill/>
          </a:ln>
        </p:spPr>
      </p:pic>
      <p:sp>
        <p:nvSpPr>
          <p:cNvPr id="97" name="矩形 8"/>
          <p:cNvSpPr/>
          <p:nvPr/>
        </p:nvSpPr>
        <p:spPr>
          <a:xfrm>
            <a:off x="524160" y="1571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1285920" y="143568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写法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第五笔长横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组词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军人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军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Calibri"/>
              </a:rPr>
              <a:t>造句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：军人是最可爱的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9T16:28:26Z</dcterms:created>
  <dc:creator/>
  <dc:description/>
  <cp:keywords/>
  <dc:language>en-US</dc:language>
  <cp:lastModifiedBy>User</cp:lastModifiedBy>
  <dcterms:modified xsi:type="dcterms:W3CDTF">2018-02-21T02:54:38Z</dcterms:modified>
  <cp:revision>29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